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0A28-13D5-4F7C-A22A-280ED4BA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0ACA-F8EA-445C-9A6C-A8B85343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C49A-C5E5-48B3-B8A5-912CDB2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BF8E-DBA7-47CC-9FC5-1C1940D3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DD5-B1F8-4939-9D49-6D643C64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876C-C4C6-4A13-9188-ED152D4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B55A-BF6F-4434-AE45-E1DF8B6A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5EA-94FF-4DF9-8FFA-FEA087D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1E3-F523-4129-B2E7-F3D97A3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1F1B-2450-43A1-9593-DA9F63B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07A0-E7DD-48F8-B447-742E115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DC2E-FF74-4DC5-816E-F5CFBC8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897-C651-48C5-86E7-66A5ABB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46A-7F68-4B82-BA07-AF186CD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B8B-A761-4333-9520-F85D9B9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7EAA-47B9-4EA9-84CF-FAE91671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639-3F0C-4F94-8F31-4938D476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711A-B8A7-4048-BCF5-E8187E4F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B58F-0552-42B6-8CD1-9EB48D6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A463-17DE-4249-8643-51564CBC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AEB2-9559-4919-8628-7406A52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790B-D35A-419A-9D4B-67326AE3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84E7-2BAD-474E-A14E-7D4E937C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4669-1866-461D-BE6E-E9CD1FB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EEF8-1BB5-4582-9F0B-34CD3C84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0DF0-D05E-46A6-9DDE-19667B8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7625-4B84-4323-AF6C-ED2E7F0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E52F-28A6-4B16-BAE1-338C9DF6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198D-3374-44D3-BAFC-F26C857A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A21F-0A84-4E43-A7A9-A9147450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9BCF-9EEB-460A-9027-6E858FD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23E92-B5AB-4779-88A0-F767AF13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FC4D-4681-420B-B1CF-26AD3CA9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36AA9-2681-4989-A6B0-515E554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35DD7-7073-4053-A185-C51AE705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EF1FE-2A06-4489-9D65-5CE9EB4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A4C62-F316-4AA1-BF6A-845D6DA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93BFC-8AED-4366-8396-2B1382D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34F5B-478A-420F-8C9E-F95E312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95316-728F-471C-B1B1-EC47534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7E8F5-40A7-40D7-923E-47594E7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681D8-E8AF-4B38-B557-8B168A73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BB908-7858-43F6-B4EB-D82918D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1EAB-51B4-4853-9906-B068F22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4CD4A-3037-472B-B4FF-C972FBC3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2A0DD-94B9-46AE-A6EB-B5032AE5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93DA5-2EA6-4601-B7FE-E68712C6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85B44-E309-4A7E-9156-572AED9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5C8A5-BF62-4819-8F72-CE64EE8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E5544-C80F-4FAA-9A27-C85ACFB3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B9D7-A756-4588-8F86-893C9DE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33960-F071-4CDA-972F-4102F42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26D83-4B30-4594-A7C8-6FC2D16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DF33E-CF43-437E-85E4-629FACD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E76A-A842-4FB2-8A43-333C82F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375A0-A5B1-45BC-8637-E1100BC6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00841-210A-4C9B-B8BC-615EAB29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13B39-FCC8-4E3D-8093-0E9D55FB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D3C2-3FCF-4EA9-B4CB-D5A9D52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2810-D7F9-4EA1-94FD-DD34FAE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1CC9B-C9A8-4223-99FA-5A9329C8291A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742CE-FB0D-4E08-B22A-E7D9D881549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F40D7-93F6-47FC-8A60-246873093552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3EEF8-C1F0-4FB9-A15F-D69507A0B135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titleSlideBevel.png"/>
          <p:cNvPicPr/>
          <p:nvPr/>
        </p:nvPicPr>
        <p:blipFill>
          <a:blip r:embed="rId3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413E3-96A7-4E94-B86F-0A6B081B9A92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2ED81-F28D-41A7-9FA2-6E811B57F4B8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SectionHeader-Bevel.png"/>
          <p:cNvPicPr/>
          <p:nvPr/>
        </p:nvPicPr>
        <p:blipFill>
          <a:blip r:embed="rId3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74F6B-8FE1-412D-BFE4-5CDBA4F78778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omparisonBoxes.png"/>
          <p:cNvPicPr/>
          <p:nvPr/>
        </p:nvPicPr>
        <p:blipFill>
          <a:blip r:embed="rId4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omparisonBoxes.png"/>
          <p:cNvPicPr/>
          <p:nvPr/>
        </p:nvPicPr>
        <p:blipFill>
          <a:blip r:embed="rId5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1C129-0A1D-451C-BAAC-DFBC7E208C28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3994C-4788-4B5E-8A40-04E305D39EB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C3C61-68CF-4A60-A181-918498977BDA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D6CDE-0E05-4B60-8D59-A57BA67FE09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2"/>
          <a:stretch/>
        </p:blipFill>
        <p:spPr>
          <a:xfrm>
            <a:off x="360360" y="2968560"/>
            <a:ext cx="5132520" cy="1719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images.jpg"/>
          <p:cNvPicPr/>
          <p:nvPr/>
        </p:nvPicPr>
        <p:blipFill>
          <a:blip r:embed="rId3"/>
          <a:stretch/>
        </p:blipFill>
        <p:spPr>
          <a:xfrm>
            <a:off x="5257800" y="16765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5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images1.jpg"/>
          <p:cNvPicPr/>
          <p:nvPr/>
        </p:nvPicPr>
        <p:blipFill>
          <a:blip r:embed="rId4"/>
          <a:stretch/>
        </p:blipFill>
        <p:spPr>
          <a:xfrm>
            <a:off x="4952880" y="1554120"/>
            <a:ext cx="3505320" cy="2324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images2.jpg"/>
          <p:cNvPicPr/>
          <p:nvPr/>
        </p:nvPicPr>
        <p:blipFill>
          <a:blip r:embed="rId5"/>
          <a:stretch/>
        </p:blipFill>
        <p:spPr>
          <a:xfrm>
            <a:off x="349200" y="387828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8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9" descr=""/>
          <p:cNvPicPr/>
          <p:nvPr/>
        </p:nvPicPr>
        <p:blipFill>
          <a:blip r:embed="rId3"/>
          <a:stretch/>
        </p:blipFill>
        <p:spPr>
          <a:xfrm>
            <a:off x="365040" y="1596960"/>
            <a:ext cx="3444840" cy="453564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11" descr="images3.jpg"/>
          <p:cNvPicPr/>
          <p:nvPr/>
        </p:nvPicPr>
        <p:blipFill>
          <a:blip r:embed="rId4"/>
          <a:srcRect l="0" t="-38438" r="0" b="-38438"/>
          <a:stretch/>
        </p:blipFill>
        <p:spPr>
          <a:xfrm>
            <a:off x="4038480" y="762120"/>
            <a:ext cx="4353120" cy="57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2" descr=""/>
          <p:cNvPicPr/>
          <p:nvPr/>
        </p:nvPicPr>
        <p:blipFill>
          <a:blip r:embed="rId3"/>
          <a:stretch/>
        </p:blipFill>
        <p:spPr>
          <a:xfrm>
            <a:off x="365040" y="1596960"/>
            <a:ext cx="34448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Content Placeholder 4" descr="images4.jpg"/>
          <p:cNvPicPr/>
          <p:nvPr/>
        </p:nvPicPr>
        <p:blipFill>
          <a:blip r:embed="rId4"/>
          <a:srcRect l="0" t="-97380" r="0" b="-97380"/>
          <a:stretch/>
        </p:blipFill>
        <p:spPr>
          <a:xfrm>
            <a:off x="3581280" y="152280"/>
            <a:ext cx="4876920" cy="643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8" name="Content Placeholder 3" descr=""/>
          <p:cNvPicPr/>
          <p:nvPr/>
        </p:nvPicPr>
        <p:blipFill>
          <a:blip r:embed="rId3"/>
          <a:stretch/>
        </p:blipFill>
        <p:spPr>
          <a:xfrm>
            <a:off x="4005360" y="1596960"/>
            <a:ext cx="3443040" cy="453564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9" descr="images6.jpg"/>
          <p:cNvPicPr/>
          <p:nvPr/>
        </p:nvPicPr>
        <p:blipFill>
          <a:blip r:embed="rId4"/>
          <a:srcRect l="0" t="-38087" r="0" b="-38087"/>
          <a:stretch/>
        </p:blipFill>
        <p:spPr>
          <a:xfrm>
            <a:off x="349200" y="1066680"/>
            <a:ext cx="36622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2"/>
          <a:stretch/>
        </p:blipFill>
        <p:spPr>
          <a:xfrm>
            <a:off x="378000" y="182520"/>
            <a:ext cx="7083360" cy="927000"/>
          </a:xfrm>
          <a:prstGeom prst="rect">
            <a:avLst/>
          </a:prstGeom>
          <a:ln w="0">
            <a:noFill/>
          </a:ln>
        </p:spPr>
      </p:pic>
      <p:pic>
        <p:nvPicPr>
          <p:cNvPr id="271" name="Content Placeholder 4" descr="images5.jpg"/>
          <p:cNvPicPr/>
          <p:nvPr/>
        </p:nvPicPr>
        <p:blipFill>
          <a:blip r:embed="rId3"/>
          <a:srcRect l="-11576" t="0" r="-11576" b="0"/>
          <a:stretch/>
        </p:blipFill>
        <p:spPr>
          <a:xfrm>
            <a:off x="366840" y="1523880"/>
            <a:ext cx="8686800" cy="48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1:49:42Z</dcterms:created>
  <dc:creator>Moffa, David</dc:creator>
  <dc:description/>
  <dc:language>en-US</dc:language>
  <cp:lastModifiedBy>Moffa, David</cp:lastModifiedBy>
  <dcterms:modified xsi:type="dcterms:W3CDTF">2011-03-31T11:45:42Z</dcterms:modified>
  <cp:revision>11</cp:revision>
  <dc:subject/>
  <dc:title>Andrew Johnson’s Legacy</dc:title>
</cp:coreProperties>
</file>